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EB7FE-90DB-4077-B7A0-742D9BEAC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2E0B-7375-46C8-B4FC-CEAD9B4A0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7A62E-9291-414F-AD36-D68B30465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03D38-5E96-4C26-BA8E-F066F5F64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E1C76-DF84-4DBF-8A79-62C548E1F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5987C-7338-420C-A681-F2ADE974D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C2710-3C0B-49FE-9108-2FA7DEF28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9F20B-51B5-49C4-A485-AFDB64519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A501E-DAC2-442C-995D-9C0EDFDBB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C209-CDA1-4E4F-8F6D-34134939F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9F6E-B140-4A74-8B06-A55C7660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C2D3-EACF-4B39-92B5-5FF274C1D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50000">
              <a:srgbClr val="ffff99"/>
            </a:gs>
            <a:gs pos="100000">
              <a:srgbClr val="cc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CC9C-D9A8-483F-94AB-8D918A48F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600200" y="1981080"/>
            <a:ext cx="59436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etic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9" name="Text Box 3"/>
          <p:cNvSpPr/>
          <p:nvPr/>
        </p:nvSpPr>
        <p:spPr>
          <a:xfrm>
            <a:off x="152280" y="609480"/>
            <a:ext cx="861084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llowing statements about mutations is tru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are always harmful to the individua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can be important to the evolution of a speci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that occur in gametes are NOT passed on to future generation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that occur in somatic cells are passed on to the future gen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1" name="Text Box 3"/>
          <p:cNvSpPr/>
          <p:nvPr/>
        </p:nvSpPr>
        <p:spPr>
          <a:xfrm>
            <a:off x="304920" y="457200"/>
            <a:ext cx="8610480" cy="612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You’ve been hired as a genetic counselor for Bates hospital.  Your first clients are the parents of a child with Phenylketonuria, PKU.  The PKU gene is located on chromosome #12.  Individuals with PKU are missing an enzyme needed for metabolism.  They can develop severe mental retardation if untreated.  The parents do NOT have PKU and neither do their other two childr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3" name="Text Box 3"/>
          <p:cNvSpPr/>
          <p:nvPr/>
        </p:nvSpPr>
        <p:spPr>
          <a:xfrm>
            <a:off x="152280" y="304920"/>
            <a:ext cx="8610840" cy="652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parents want to know how their child go PKU.  Which of the following is the best response?</a:t>
            </a:r>
            <a:endParaRPr b="0" lang="en-US" sz="3000" spc="-1" strike="noStrike">
              <a:solidFill>
                <a:srgbClr val="000000"/>
              </a:solidFill>
              <a:latin typeface="Arial"/>
            </a:endParaRPr>
          </a:p>
          <a:p>
            <a:pPr lvl="1" marL="800280" indent="-343080">
              <a:lnSpc>
                <a:spcPct val="100000"/>
              </a:lnSpc>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oth the parents carry 2 alleles for PKU which were passed on to the child.</a:t>
            </a:r>
            <a:endParaRPr b="0" lang="en-US" sz="3000" spc="-1" strike="noStrike">
              <a:solidFill>
                <a:srgbClr val="000000"/>
              </a:solidFill>
              <a:latin typeface="Arial"/>
            </a:endParaRPr>
          </a:p>
          <a:p>
            <a:pPr lvl="1" marL="800280" indent="-343080">
              <a:lnSpc>
                <a:spcPct val="100000"/>
              </a:lnSpc>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oth the parents carry 1 allele for PKU which was passed on to the child.</a:t>
            </a:r>
            <a:endParaRPr b="0" lang="en-US" sz="3000" spc="-1" strike="noStrike">
              <a:solidFill>
                <a:srgbClr val="000000"/>
              </a:solidFill>
              <a:latin typeface="Arial"/>
            </a:endParaRPr>
          </a:p>
          <a:p>
            <a:pPr lvl="1" marL="800280" indent="-343080">
              <a:lnSpc>
                <a:spcPct val="100000"/>
              </a:lnSpc>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ne parent carries an allele for PKU which was passed on to the child.</a:t>
            </a:r>
            <a:endParaRPr b="0" lang="en-US" sz="3000" spc="-1" strike="noStrike">
              <a:solidFill>
                <a:srgbClr val="000000"/>
              </a:solidFill>
              <a:latin typeface="Arial"/>
            </a:endParaRPr>
          </a:p>
          <a:p>
            <a:pPr lvl="1" marL="800280" indent="-343080">
              <a:lnSpc>
                <a:spcPct val="100000"/>
              </a:lnSpc>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ither parent carries an allele for PKU, so the child must have gotten it some other w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5"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the probability their next child will get the diseas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0%</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0%</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5%</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7"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llowing statements about PKU is tru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KU is caused by the environment.</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KU is a sex-linked disord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KU is a dominant disord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KU is a recessive dis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ff00"/>
            </a:gs>
            <a:gs pos="100000">
              <a:srgbClr val="cc99ff"/>
            </a:gs>
          </a:gsLst>
          <a:lin ang="5400000"/>
        </a:gradFill>
      </p:bgPr>
    </p:bg>
    <p:spTree>
      <p:nvGrpSpPr>
        <p:cNvPr id="1" name=""/>
        <p:cNvGrpSpPr/>
        <p:nvPr/>
      </p:nvGrpSpPr>
      <p:grpSpPr>
        <a:xfrm>
          <a:off x="0" y="0"/>
          <a:ext cx="0" cy="0"/>
          <a:chOff x="0" y="0"/>
          <a:chExt cx="0" cy="0"/>
        </a:xfrm>
      </p:grpSpPr>
      <p:sp>
        <p:nvSpPr>
          <p:cNvPr id="6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9" name="Text Box 3"/>
          <p:cNvSpPr/>
          <p:nvPr/>
        </p:nvSpPr>
        <p:spPr>
          <a:xfrm>
            <a:off x="152280" y="609480"/>
            <a:ext cx="8610840" cy="229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ritish scientist Ronald Fisher stated, “Mendelism supplied the missing parts of the structure erected by Darwin.”</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plain what Fisher meant by this…..</a:t>
            </a:r>
            <a:endParaRPr b="0" lang="en-US" sz="3200" spc="-1" strike="noStrike">
              <a:solidFill>
                <a:srgbClr val="000000"/>
              </a:solidFill>
              <a:latin typeface="Arial"/>
            </a:endParaRPr>
          </a:p>
        </p:txBody>
      </p:sp>
      <p:pic>
        <p:nvPicPr>
          <p:cNvPr id="70" name="Picture 7" descr="dna_looking_through_magnifying_glass_hg_clr[1]"/>
          <p:cNvPicPr/>
          <p:nvPr/>
        </p:nvPicPr>
        <p:blipFill>
          <a:blip r:embed="rId1"/>
          <a:stretch/>
        </p:blipFill>
        <p:spPr>
          <a:xfrm>
            <a:off x="5334120" y="304812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72" name="Text Box 3"/>
          <p:cNvSpPr/>
          <p:nvPr/>
        </p:nvSpPr>
        <p:spPr>
          <a:xfrm>
            <a:off x="0" y="334800"/>
            <a:ext cx="86104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e/Contrast mitosis &amp; meiosis.</a:t>
            </a:r>
            <a:endParaRPr b="0" lang="en-US" sz="3200" spc="-1" strike="noStrike">
              <a:solidFill>
                <a:srgbClr val="000000"/>
              </a:solidFill>
              <a:latin typeface="Arial"/>
            </a:endParaRPr>
          </a:p>
        </p:txBody>
      </p:sp>
      <p:sp>
        <p:nvSpPr>
          <p:cNvPr id="73" name="Oval 4"/>
          <p:cNvSpPr/>
          <p:nvPr/>
        </p:nvSpPr>
        <p:spPr>
          <a:xfrm>
            <a:off x="304920" y="1752480"/>
            <a:ext cx="5333760" cy="4114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
          <p:cNvSpPr/>
          <p:nvPr/>
        </p:nvSpPr>
        <p:spPr>
          <a:xfrm>
            <a:off x="3505320" y="1752480"/>
            <a:ext cx="5333760" cy="4114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76"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WO (2) significant contributions made by Gregor Mendel to the field of biology.</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78"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ndel discovered that each gamete receives one allele for each trait.  This occurs during __________.</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it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i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phas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0" name="Text Box 3"/>
          <p:cNvSpPr/>
          <p:nvPr/>
        </p:nvSpPr>
        <p:spPr>
          <a:xfrm>
            <a:off x="304920" y="822240"/>
            <a:ext cx="8610480" cy="4360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hen cells divide by mitosis, two diploid daughter cells are formed.  Both daughter cells have the same genetic composition as the parent cell.  Give three ways this is different from cell division by meio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43" name="Text Box 3"/>
          <p:cNvSpPr/>
          <p:nvPr/>
        </p:nvSpPr>
        <p:spPr>
          <a:xfrm>
            <a:off x="152280" y="609480"/>
            <a:ext cx="861084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cancer drugs work by disrupting the cell cycle.  Why is this considered a promising approach in the treatment of canc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cer cells skip the S phas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cer cells divide rapidly.</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cer cells complete 2 mitotic divisions before cytokine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cer cells have a long growth period prior to di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2" name="Text Box 3"/>
          <p:cNvSpPr/>
          <p:nvPr/>
        </p:nvSpPr>
        <p:spPr>
          <a:xfrm>
            <a:off x="152280" y="609480"/>
            <a:ext cx="8610840" cy="478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 rabbits, the allele for black coat color (B) is dominant over the allele for brown coat color (b).  Predict the genotypic AND phenotypic ratios if a heterozyogus female is crossed with a heterozygous ma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4" name="Text Box 3"/>
          <p:cNvSpPr/>
          <p:nvPr/>
        </p:nvSpPr>
        <p:spPr>
          <a:xfrm>
            <a:off x="152280" y="988920"/>
            <a:ext cx="8610840" cy="354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that occur in gametes _______.</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y be passed to offspring.</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ccur during mit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ccur during fertilization.</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usually fa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6"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tic code is carried in DNA molecules through the sequence of….</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gar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licas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sph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8"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that occur in body cells are passed to……</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mete cell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atic cell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male offspring.</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le offsp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90" name="Text Box 3"/>
          <p:cNvSpPr/>
          <p:nvPr/>
        </p:nvSpPr>
        <p:spPr>
          <a:xfrm>
            <a:off x="457200" y="1190520"/>
            <a:ext cx="8610480" cy="338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Explain the functions of transcription and translation in protein synthesi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ell</a:t>
            </a:r>
            <a:endParaRPr b="0" lang="en-US" sz="1800" spc="1" strike="noStrike">
              <a:ln w="9360">
                <a:solidFill>
                  <a:srgbClr val="000000"/>
                </a:solidFill>
                <a:miter/>
              </a:ln>
              <a:solidFill>
                <a:srgbClr val="ffffff"/>
              </a:solidFill>
              <a:latin typeface="Arial Black"/>
              <a:ea typeface="Arial Black"/>
            </a:endParaRPr>
          </a:p>
        </p:txBody>
      </p:sp>
      <p:sp>
        <p:nvSpPr>
          <p:cNvPr id="92" name="Text Box 3"/>
          <p:cNvSpPr/>
          <p:nvPr/>
        </p:nvSpPr>
        <p:spPr>
          <a:xfrm>
            <a:off x="380880" y="942840"/>
            <a:ext cx="8610840" cy="301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Compare and contrast the following gene mutations:  substitutions and frameshift mut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45" name="Text Box 3"/>
          <p:cNvSpPr/>
          <p:nvPr/>
        </p:nvSpPr>
        <p:spPr>
          <a:xfrm>
            <a:off x="152280" y="609480"/>
            <a:ext cx="8610840" cy="50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can crossing-over result in offspring that have a combination of alleles not found in either parent?</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create new allel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romosomes split during mei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romosomes replicate during mei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eles are exchanged between chromo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47"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type of mutation is the result of the deletion of a single nucleotid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ersion</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ameshift</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stitution</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ns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49"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iploid cell has alleles Aa and Bb.  A likely combination of alleles in a haploid sex cell formed by normal meiosis would b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Bb</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b</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1"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llowing molecules is responsible for the inheritance of genetic materia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raci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P</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RNA</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3" name="Text Box 3"/>
          <p:cNvSpPr/>
          <p:nvPr/>
        </p:nvSpPr>
        <p:spPr>
          <a:xfrm>
            <a:off x="152280" y="609480"/>
            <a:ext cx="8610840" cy="50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heterozygous gold marigolds are crossed.  What is the expected phenotypic ratio of the offspring?  Gold is completely dominant over red.</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red</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gold</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old : 1 red</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gold : 1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5"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llowing molecules is responsible for the inheritance of genetic materia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raci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P</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RNA</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7"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alamander lost a portion of its leg in a fight.  What molecule contained all the information necessary to make a new leg?</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tein</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NA</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ymin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p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5:52:42Z</dcterms:created>
  <dc:creator>Kary M. Kahle</dc:creator>
  <dc:description/>
  <dc:language>en-US</dc:language>
  <cp:lastModifiedBy>Tracey Hayden</cp:lastModifiedBy>
  <dcterms:modified xsi:type="dcterms:W3CDTF">2009-04-19T16:09:36Z</dcterms:modified>
  <cp:revision>23</cp:revision>
  <dc:subject/>
  <dc:title>Slide 1</dc:title>
</cp:coreProperties>
</file>